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E4AA-1E3C-48D0-8F2B-B107F56B7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C450-F2F8-4412-8E48-BF3256EB3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1BAE-16A6-4474-82B5-C591CC17E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5513-AB06-4BD7-86C3-71FF149E4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F7899-0FD9-4865-A684-8DA8D7BBA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F0909-BF2F-4935-A763-C9703EC50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4296B-2B3F-41DF-8261-B7E8DEDD1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66699-F4A5-4D96-9A78-0A39B60A9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32C23-1FBE-4BF2-BCDD-EB5E15EBD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E2783-EB2F-4DEB-A7BC-B7A4540E2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CF5E4-700A-4539-9259-55CF20DAF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E3EA-AAB3-4BFE-9584-D1936BBD3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092B5-4D19-474B-89B4-D1BB8820F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E5190-18A6-4579-AEBE-5F08C76B0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DFF76-BF6E-4560-9F52-AC433BB9D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92143-FCEC-42E2-A4FA-3A5565368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2970B-6A49-4FB8-81DC-873038AEF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ED2F-BFC6-418C-85FA-9215FB877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67DF-CA76-48D2-A413-822BC99D6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7679-EF02-4E70-BAF2-DEF654029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3937-1DA3-4502-ACB4-58984BF45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541C-0B31-4CAA-8B98-FCD27B593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0B6B-E12B-40E9-A1DA-B8D1E6E90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FD60-036B-4B68-8060-074A9ED34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E3818-22B2-478B-A661-75F227D84DC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F9AFD-F3C4-45F7-955F-C17B8630C48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184464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00"/>
                </a:solidFill>
                <a:latin typeface="Arial"/>
              </a:rPr>
              <a:t>ТЕМА: ОЦЕНКА СТОИМОСТИ ЗЕМЕЛЬ СЕЛЬСКОХОЗЯЙСТВЕННОГО НАЗНАЧЕНИЯ</a:t>
            </a:r>
            <a:endParaRPr b="0" lang="en-US" sz="41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385360" y="692280"/>
            <a:ext cx="4258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 Black"/>
              </a:rPr>
              <a:t>Экономическая оцен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 Black"/>
              </a:rPr>
              <a:t>стоимости земел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9640" y="2708280"/>
            <a:ext cx="417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Black"/>
              </a:rPr>
              <a:t>Подход, основанны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Black"/>
              </a:rPr>
              <a:t>на экономическо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Black"/>
              </a:rPr>
              <a:t>эффективности её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Black"/>
              </a:rPr>
              <a:t>использов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859280" y="2708280"/>
            <a:ext cx="4500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Black"/>
              </a:rPr>
              <a:t>Подход, основанный 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Black"/>
              </a:rPr>
              <a:t>нормативе возмещен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Black"/>
              </a:rPr>
              <a:t>потерь при отводе земел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Black"/>
              </a:rPr>
              <a:t>на несельскохозяйственны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Black"/>
              </a:rPr>
              <a:t>цел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2340000" y="1628640"/>
            <a:ext cx="1440000" cy="10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59280" y="1628640"/>
            <a:ext cx="1368360" cy="10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92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4" dur="192" fill="hold"/>
                                        <p:tgtEl>
                                          <p:spTgt spid="1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5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6" dur="192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7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8" dur="192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9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7900"/>
                            </p:stCondLst>
                            <p:childTnLst>
                              <p:par>
                                <p:cTn id="2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9900"/>
                            </p:stCondLst>
                            <p:childTnLst>
                              <p:par>
                                <p:cTn id="28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Объекты оценки в соответствии с Европейскими стандартами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Земл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Оборудованные фермы (с жилыми домами и постройками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Сельскохозяйственные имения и имущество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Многолетние культур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Квоты на производство продукци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Поголовье скот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Машины и материальные запас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Зерно в хранилищах и д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9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3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500"/>
                            </p:stCondLst>
                            <p:childTnLst>
                              <p:par>
                                <p:cTn id="30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000"/>
                            </p:stCondLst>
                            <p:childTnLst>
                              <p:par>
                                <p:cTn id="30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500"/>
                            </p:stCondLst>
                            <p:childTnLst>
                              <p:par>
                                <p:cTn id="3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5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3000"/>
                            </p:stCondLst>
                            <p:childTnLst>
                              <p:par>
                                <p:cTn id="3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9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3500"/>
                            </p:stCondLst>
                            <p:childTnLst>
                              <p:par>
                                <p:cTn id="3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3" dur="5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4000"/>
                            </p:stCondLst>
                            <p:childTnLst>
                              <p:par>
                                <p:cTn id="3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7" dur="500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В соответствии с законодательством РФ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Земли сельскохозяйственного назначения – это земли за чертой поселен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В составе земель поселений выделяют зоны сельскохозяйственного использов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500"/>
                            </p:stCondLst>
                            <p:childTnLst>
                              <p:par>
                                <p:cTn id="34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Земли сельскохозяйственного назначения подразделяются на земли: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Сельскохозяйственные угодь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Занятые внутрихозяйственными дорогами и коммуникациям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Занятые древесно-кустарниковой растительностью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Предназначенные для обеспечения защиты земель от негативных воздейств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Занятые обособленными водными объектам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Занятые зданиями, строениями и сооружениями, используемыми для производства, хранения и первичной переработки сельскохозяйственной продук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3350"/>
                            </p:stCondLst>
                            <p:childTnLst>
                              <p:par>
                                <p:cTn id="35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350"/>
                            </p:stCondLst>
                            <p:childTnLst>
                              <p:par>
                                <p:cTn id="36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350"/>
                            </p:stCondLst>
                            <p:childTnLst>
                              <p:par>
                                <p:cTn id="37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6350"/>
                            </p:stCondLst>
                            <p:childTnLst>
                              <p:par>
                                <p:cTn id="37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7350"/>
                            </p:stCondLst>
                            <p:childTnLst>
                              <p:par>
                                <p:cTn id="38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8350"/>
                            </p:stCondLst>
                            <p:childTnLst>
                              <p:par>
                                <p:cTn id="39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Объекты оценки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Сельскохозяйственные и иные угодья, или незастроенные участки, предназначенные для сельскохозяйственного производств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Застроенные земельные участки, с расположенными на них постройками разного назначения и использова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Сельскохозяйственный имущественный комплекс с сельскохозяйственными угодья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Земельные дол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150"/>
                            </p:stCondLst>
                            <p:childTnLst>
                              <p:par>
                                <p:cTn id="4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2150"/>
                            </p:stCondLst>
                            <p:childTnLst>
                              <p:par>
                                <p:cTn id="4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150"/>
                            </p:stCondLst>
                            <p:childTnLst>
                              <p:par>
                                <p:cTn id="4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4150"/>
                            </p:stCondLst>
                            <p:childTnLst>
                              <p:par>
                                <p:cTn id="4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Вопрос 2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Основные методы оценки рыночной стоимости земл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cfc50"/>
                </a:solidFill>
                <a:latin typeface="Times New Roman"/>
              </a:rPr>
              <a:t>Рекомендуемые методы оценки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250920" y="1341360"/>
          <a:ext cx="8229600" cy="52959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Международными стандартам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Минимуществом Росси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Способ сравнения продаж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Метод сравнения продаж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Разнес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Метод распределе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Извлеч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Метод выделе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Остаточной стоимост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Метод остатка для земл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Способ развития территори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Метод предполагаемого использова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Капитализации арендной плат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Метод капитализации земельной рент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cfc50"/>
                </a:solidFill>
                <a:latin typeface="Times New Roman"/>
              </a:rPr>
              <a:t>Основные характеристики методов оценки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0" y="1413000"/>
          <a:ext cx="9144000" cy="4782960"/>
        </p:xfrm>
        <a:graphic>
          <a:graphicData uri="http://schemas.openxmlformats.org/drawingml/2006/table">
            <a:tbl>
              <a:tblPr/>
              <a:tblGrid>
                <a:gridCol w="1979640"/>
                <a:gridCol w="2049480"/>
                <a:gridCol w="2271600"/>
                <a:gridCol w="2843280"/>
              </a:tblGrid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Метод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На каком принципе базируетс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В каком случае используетс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Необходимая информаци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Метод сравнения продаж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Принцип замещени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Для оценки незастроенной земли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О ценах продаж аналогов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Метод распределени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Сбалансированности и вклада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Для оценки застроенных участков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О продажах застроенных земельных участках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0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Метод выделени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Принцип наиболее эффективного использовани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Для оценки застроенных участков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О стоимости улучшений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cfc50"/>
                </a:solidFill>
                <a:latin typeface="Times New Roman"/>
              </a:rPr>
              <a:t>Основные характеристики методов оценки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0" y="1268280"/>
          <a:ext cx="9145440" cy="5300640"/>
        </p:xfrm>
        <a:graphic>
          <a:graphicData uri="http://schemas.openxmlformats.org/drawingml/2006/table">
            <a:tbl>
              <a:tblPr/>
              <a:tblGrid>
                <a:gridCol w="1944720"/>
                <a:gridCol w="2087640"/>
                <a:gridCol w="2233440"/>
                <a:gridCol w="287964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Мето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На каком принципе базируетс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В каком случае используетс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Необходимая информац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Метод остатка земл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Принцип остаточной продуктивности земл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Для оценки свободных или частично застроенных участк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О сделках по сдаче строений участков аналогов в аренд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Метод пред-полагаемого использова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Принцип остаточной продуктивности земл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Для оценки любого земельного участ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О возможных денежных потоках связанных с использованием участ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Метод капитализации земельной рен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Принцип наиболее эффективного использова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Для оценки любого земельного участ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О возможных денежных потоках связанных с использованием участ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ecfc50"/>
                </a:solidFill>
                <a:latin typeface="Times New Roman"/>
              </a:rPr>
              <a:t>Метод сравнения продаж.</a:t>
            </a:r>
            <a:br>
              <a:rPr sz="3400"/>
            </a:br>
            <a:r>
              <a:rPr b="0" lang="en-US" sz="3400" spc="-1" strike="noStrike">
                <a:solidFill>
                  <a:srgbClr val="ecfc50"/>
                </a:solidFill>
                <a:latin typeface="Times New Roman"/>
              </a:rPr>
              <a:t>Последовательность действий</a:t>
            </a:r>
            <a:endParaRPr b="0" lang="en-US" sz="3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468360" y="1916280"/>
          <a:ext cx="8229600" cy="4103640"/>
        </p:xfrm>
        <a:graphic>
          <a:graphicData uri="http://schemas.openxmlformats.org/drawingml/2006/table">
            <a:tbl>
              <a:tblPr/>
              <a:tblGrid>
                <a:gridCol w="801720"/>
                <a:gridCol w="7427880"/>
              </a:tblGrid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№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Действ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6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Подбор участков земли, сопоставимых по ценообразующим факторам с оцениваемым участком, с известными ценами продаж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Внесение поправок в цены продаж, позволяющих учесть отличия объекта оценки от сопоставимого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Расчет стоимости земельного участка как среднего или средневзвешенного значения скорректированных цен сопоставимых объект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Тема: Оценка стоимости земель сельскохозяйственного назначения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. Особенности оценки стоимости земель сельскохозяйственного назначения. Объекты оценк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2. Основные методы оценки земель        сельскохозяйственного назнач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3. Примеры оценки стоимости зем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40"/>
                            </p:stCondLst>
                            <p:childTnLst>
                              <p:par>
                                <p:cTn id="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280"/>
                            </p:stCondLst>
                            <p:childTnLst>
                              <p:par>
                                <p:cTn id="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7680"/>
                            </p:stCondLst>
                            <p:childTnLst>
                              <p:par>
                                <p:cTn id="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cfc50"/>
                </a:solidFill>
                <a:latin typeface="Times New Roman"/>
              </a:rPr>
              <a:t>Методы определения значения поправок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838080" y="1905120"/>
          <a:ext cx="8007480" cy="4327560"/>
        </p:xfrm>
        <a:graphic>
          <a:graphicData uri="http://schemas.openxmlformats.org/drawingml/2006/table">
            <a:tbl>
              <a:tblPr/>
              <a:tblGrid>
                <a:gridCol w="4005360"/>
                <a:gridCol w="4002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Количественны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Качественны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Анализ парного набора данны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Метод общей группировк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Статистический анали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Графический анали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Метод индивидуальных опрос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Анализ издерже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Анализ вторичных данны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66"/>
                </a:solidFill>
                <a:latin typeface="Times New Roman"/>
              </a:rPr>
              <a:t>Последовательность действий в методе распределения</a:t>
            </a:r>
            <a:endParaRPr b="0" lang="en-US" sz="3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57200" y="1600200"/>
          <a:ext cx="8229600" cy="4759200"/>
        </p:xfrm>
        <a:graphic>
          <a:graphicData uri="http://schemas.openxmlformats.org/drawingml/2006/table">
            <a:tbl>
              <a:tblPr/>
              <a:tblGrid>
                <a:gridCol w="801720"/>
                <a:gridCol w="7427880"/>
              </a:tblGrid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№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Действ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Подбор недавно проданных или предлагаемых на продажу объектов с участками земли, аналогичными к оцениваемому участку, с известными ценами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Оценка отношения стоимости земли к общей стоимости собственности по каждому из подобранных объектов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Расчет рыночных стоимостей участков земли, находящихся в сопоставимых объектах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Корректировка полученных стоимостей земельных участков к стоимости оцениваемого участка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Расчет стоимости оцениваемого участка как среднего или средневзвешенного откорректированных стоимостей земельных участков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Последовательность действий при использовании метода выделения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57200" y="1600200"/>
          <a:ext cx="8229600" cy="4730760"/>
        </p:xfrm>
        <a:graphic>
          <a:graphicData uri="http://schemas.openxmlformats.org/drawingml/2006/table">
            <a:tbl>
              <a:tblPr/>
              <a:tblGrid>
                <a:gridCol w="801720"/>
                <a:gridCol w="7427880"/>
              </a:tblGrid>
              <a:tr h="53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№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Действ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Подбор объектов недвижимости с участками земли, аналогичными оцениваемому, с известными ценами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Оценка рыночной стоимости улучшений для каждого из подобранных объектов недвижимости как разности полной восстановительной стоимости и накопленного износа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Расчет рыночных стоимостей участков земли, находящихся в составе подобранных объектов недвижимости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Корректировка полученных стоимостей земельных участков к стоимости оцениваемого участка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Расчет стоимости оцениваемого участка как среднего или средневзвешенного откорректированных стоимостей земельных участков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Arial"/>
              </a:rPr>
              <a:t>Метод остатка земли</a:t>
            </a:r>
            <a:br>
              <a:rPr sz="2700"/>
            </a:br>
            <a:r>
              <a:rPr b="0" lang="en-US" sz="2700" spc="-1" strike="noStrike">
                <a:solidFill>
                  <a:srgbClr val="ffff66"/>
                </a:solidFill>
                <a:latin typeface="Arial"/>
              </a:rPr>
              <a:t>Последовательность действий</a:t>
            </a:r>
            <a:endParaRPr b="0" lang="en-US" sz="27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95280" y="1197000"/>
          <a:ext cx="8229600" cy="5348160"/>
        </p:xfrm>
        <a:graphic>
          <a:graphicData uri="http://schemas.openxmlformats.org/drawingml/2006/table">
            <a:tbl>
              <a:tblPr/>
              <a:tblGrid>
                <a:gridCol w="801720"/>
                <a:gridCol w="742788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Действ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Подбор наиболее типичных для оцениваемой территории видов коммерческого использования оцениваемого земельного участка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Расчет остаточной (для существующих) или полной восстановительной стоимости прогнозируемых улучшений для выбранных видов использования оцениваемого участка с учетом возможных ограничений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Расчет общего чистого дохода от объекта недвижимости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Расчет доли общего чистого дохода, приходящегося на строения, как произведение их полной восстановительной  стоимости на коэффициент капитализации доходов от улучшений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Расчет доли общего чистого дохода, приходящегося на земельный участок, как разности общего чистого дохода и доли, приходящейся на строения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Расчет стоимости земельного  участка путем деления доли общего чистого дохода, приходящейся на участок, на коэффициент капитализации доходов от земл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Метод предполагаемого использования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395280" y="1125360"/>
          <a:ext cx="8229600" cy="5319720"/>
        </p:xfrm>
        <a:graphic>
          <a:graphicData uri="http://schemas.openxmlformats.org/drawingml/2006/table">
            <a:tbl>
              <a:tblPr/>
              <a:tblGrid>
                <a:gridCol w="801720"/>
                <a:gridCol w="7427880"/>
              </a:tblGrid>
              <a:tr h="49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№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Действи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Анализ наиболее эффективного варианта застройки и доходного использования застроенного участка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Составление сметы, обоснование сроков и графика строительства выбранного варианта застройки земельного участка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Прогнозирование доходов от использования застроенного земельного участка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Расчет издержек, необходимых для получения доходов от использования застроенного земельного участка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3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Оценка  стоимости земельного участка путем дисконтирования всех денежных потоков, связанных с реализацией проекта наиболее эффективного использования земельного участка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ecfc50"/>
                </a:solidFill>
                <a:latin typeface="Times New Roman"/>
              </a:rPr>
              <a:t>Метод капитализации земельной ренты</a:t>
            </a:r>
            <a:endParaRPr b="0" lang="en-US" sz="3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Годовая рен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V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Коэф. капитализ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V – </a:t>
            </a: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рыночная стоимость зем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843280" y="3068640"/>
            <a:ext cx="3600360" cy="0"/>
          </a:xfrm>
          <a:prstGeom prst="line">
            <a:avLst/>
          </a:prstGeom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етоды доходного подход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422280" y="2689560"/>
            <a:ext cx="8252640" cy="2687040"/>
            <a:chOff x="422280" y="2689560"/>
            <a:chExt cx="8252640" cy="2687040"/>
          </a:xfrm>
        </p:grpSpPr>
        <p:cxnSp>
          <p:nvCxnSpPr>
            <p:cNvPr id="182" name="_s133131"/>
            <p:cNvCxnSpPr>
              <a:stCxn id="183" idx="0"/>
              <a:endCxn id="184" idx="2"/>
            </p:cNvCxnSpPr>
            <p:nvPr/>
          </p:nvCxnSpPr>
          <p:spPr>
            <a:xfrm flipV="1" rot="16200000">
              <a:off x="5910840" y="2268720"/>
              <a:ext cx="160200" cy="2886840"/>
            </a:xfrm>
            <a:prstGeom prst="bentConnector3">
              <a:avLst>
                <a:gd name="adj1" fmla="val 49549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85" name="_s133125"/>
            <p:cNvCxnSpPr>
              <a:stCxn id="186" idx="0"/>
              <a:endCxn id="184" idx="2"/>
            </p:cNvCxnSpPr>
            <p:nvPr/>
          </p:nvCxnSpPr>
          <p:spPr>
            <a:xfrm flipV="1">
              <a:off x="4548240" y="3632040"/>
              <a:ext cx="3600" cy="16020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87" name="_s133126"/>
            <p:cNvCxnSpPr>
              <a:stCxn id="188" idx="0"/>
              <a:endCxn id="184" idx="2"/>
            </p:cNvCxnSpPr>
            <p:nvPr/>
          </p:nvCxnSpPr>
          <p:spPr>
            <a:xfrm flipH="1" flipV="1" rot="5400000">
              <a:off x="3025440" y="2269080"/>
              <a:ext cx="160200" cy="2886120"/>
            </a:xfrm>
            <a:prstGeom prst="bentConnector3">
              <a:avLst>
                <a:gd name="adj1" fmla="val 49549"/>
              </a:avLst>
            </a:prstGeom>
            <a:ln w="28440">
              <a:solidFill>
                <a:srgbClr val="540000"/>
              </a:solidFill>
              <a:miter/>
            </a:ln>
          </p:spPr>
        </p:cxnSp>
        <p:sp>
          <p:nvSpPr>
            <p:cNvPr id="184" name="_s133127"/>
            <p:cNvSpPr/>
            <p:nvPr/>
          </p:nvSpPr>
          <p:spPr>
            <a:xfrm>
              <a:off x="3333240" y="2689560"/>
              <a:ext cx="2430000" cy="942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160" rIns="20160" tIns="10080" bIns="10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Times New Roman"/>
                </a:rPr>
                <a:t>Доходный 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Times New Roman"/>
                </a:rPr>
                <a:t>подход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_s133128"/>
            <p:cNvSpPr/>
            <p:nvPr/>
          </p:nvSpPr>
          <p:spPr>
            <a:xfrm>
              <a:off x="422280" y="3791880"/>
              <a:ext cx="2481120" cy="1584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160" rIns="20160" tIns="10080" bIns="10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Times New Roman"/>
                </a:rPr>
                <a:t>Метод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Times New Roman"/>
                </a:rPr>
                <a:t>капитализации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Times New Roman"/>
                </a:rPr>
                <a:t>Земельной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Times New Roman"/>
                </a:rPr>
                <a:t>ренты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_s133129"/>
            <p:cNvSpPr/>
            <p:nvPr/>
          </p:nvSpPr>
          <p:spPr>
            <a:xfrm>
              <a:off x="3308400" y="3791880"/>
              <a:ext cx="2480400" cy="1584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160" rIns="20160" tIns="10080" bIns="10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Garamond"/>
                </a:rPr>
                <a:t> </a:t>
              </a:r>
              <a:r>
                <a:rPr b="0" lang="en-US" sz="2300" spc="-1" strike="noStrike">
                  <a:solidFill>
                    <a:srgbClr val="ffffff"/>
                  </a:solidFill>
                  <a:latin typeface="Times New Roman"/>
                </a:rPr>
                <a:t>Метод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Times New Roman"/>
                </a:rPr>
                <a:t>предполагаемого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Times New Roman"/>
                </a:rPr>
                <a:t>использования 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_s133130"/>
            <p:cNvSpPr/>
            <p:nvPr/>
          </p:nvSpPr>
          <p:spPr>
            <a:xfrm>
              <a:off x="6193800" y="3791880"/>
              <a:ext cx="2481120" cy="1584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600" rIns="21600" tIns="10800" bIns="10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Times New Roman"/>
                </a:rPr>
                <a:t>Метод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Times New Roman"/>
                </a:rPr>
                <a:t>остатка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Times New Roman"/>
                </a:rPr>
                <a:t>для земли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set>
                                      <p:cBhvr>
                                        <p:cTn id="44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етоды сравнительного подход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324000" y="1483560"/>
            <a:ext cx="8410320" cy="3850920"/>
            <a:chOff x="324000" y="1483560"/>
            <a:chExt cx="8410320" cy="3850920"/>
          </a:xfrm>
        </p:grpSpPr>
        <p:cxnSp>
          <p:nvCxnSpPr>
            <p:cNvPr id="193" name="_s134149"/>
            <p:cNvCxnSpPr>
              <a:stCxn id="194" idx="0"/>
              <a:endCxn id="195" idx="2"/>
            </p:cNvCxnSpPr>
            <p:nvPr/>
          </p:nvCxnSpPr>
          <p:spPr>
            <a:xfrm flipV="1" rot="16200000">
              <a:off x="5425200" y="1590480"/>
              <a:ext cx="1162440" cy="2947320"/>
            </a:xfrm>
            <a:prstGeom prst="bentConnector3">
              <a:avLst>
                <a:gd name="adj1" fmla="val 9820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96" name="_s134150"/>
            <p:cNvCxnSpPr>
              <a:stCxn id="197" idx="0"/>
              <a:endCxn id="195" idx="2"/>
            </p:cNvCxnSpPr>
            <p:nvPr/>
          </p:nvCxnSpPr>
          <p:spPr>
            <a:xfrm flipV="1">
              <a:off x="4533120" y="2482560"/>
              <a:ext cx="3240" cy="202536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98" name="_s134151"/>
            <p:cNvCxnSpPr>
              <a:stCxn id="199" idx="0"/>
              <a:endCxn id="195" idx="2"/>
            </p:cNvCxnSpPr>
            <p:nvPr/>
          </p:nvCxnSpPr>
          <p:spPr>
            <a:xfrm flipH="1" flipV="1" rot="5400000">
              <a:off x="2474280" y="1586160"/>
              <a:ext cx="1162440" cy="2955960"/>
            </a:xfrm>
            <a:prstGeom prst="bentConnector3">
              <a:avLst>
                <a:gd name="adj1" fmla="val 9820"/>
              </a:avLst>
            </a:prstGeom>
            <a:ln w="28440">
              <a:solidFill>
                <a:srgbClr val="540000"/>
              </a:solidFill>
              <a:miter/>
            </a:ln>
          </p:spPr>
        </p:cxnSp>
        <p:sp>
          <p:nvSpPr>
            <p:cNvPr id="195" name="_s134152"/>
            <p:cNvSpPr/>
            <p:nvPr/>
          </p:nvSpPr>
          <p:spPr>
            <a:xfrm>
              <a:off x="3276720" y="1483560"/>
              <a:ext cx="2511000" cy="999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Сравнительный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подход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_s134153"/>
            <p:cNvSpPr/>
            <p:nvPr/>
          </p:nvSpPr>
          <p:spPr>
            <a:xfrm>
              <a:off x="324000" y="3645000"/>
              <a:ext cx="2508120" cy="115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Метод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сравнения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прода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_s134154"/>
            <p:cNvSpPr/>
            <p:nvPr/>
          </p:nvSpPr>
          <p:spPr>
            <a:xfrm>
              <a:off x="3276720" y="4507560"/>
              <a:ext cx="2511000" cy="826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Метод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распределени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_s134155"/>
            <p:cNvSpPr/>
            <p:nvPr/>
          </p:nvSpPr>
          <p:spPr>
            <a:xfrm>
              <a:off x="6228720" y="3645000"/>
              <a:ext cx="2505600" cy="826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Метод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выделени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5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6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6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6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7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7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7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7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Вопрос 3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Примеры оценки стоимости земли        сельскохозяйственного назначе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"/>
          <p:cNvGraphicFramePr/>
          <p:nvPr/>
        </p:nvGraphicFramePr>
        <p:xfrm>
          <a:off x="324000" y="907920"/>
          <a:ext cx="8567640" cy="5338800"/>
        </p:xfrm>
        <a:graphic>
          <a:graphicData uri="http://schemas.openxmlformats.org/drawingml/2006/table">
            <a:tbl>
              <a:tblPr/>
              <a:tblGrid>
                <a:gridCol w="4103640"/>
                <a:gridCol w="4464000"/>
              </a:tblGrid>
              <a:tr h="49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№ </a:t>
                      </a: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фактор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Корректировки на зависимой основ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. Условия финансиров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6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30000(1-0,06)=282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. Дата продаж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+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8200(1+0,05)=296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Корректировка на независимой основ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3. Местополож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-1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4. Удобст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5. Топограф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-1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Общая корректировка на независимой основ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-2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0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Стоимость объекта-аналога, если он обладал характеристиками оцениваемого объек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9610(1-0,2)=2368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3" name=""/>
          <p:cNvSpPr/>
          <p:nvPr/>
        </p:nvSpPr>
        <p:spPr>
          <a:xfrm>
            <a:off x="755280" y="189000"/>
            <a:ext cx="773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Расчёт стоимости земли методом сравнения прода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0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Литература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Оценка недвижимости/ Под ред. А.Г. Грязновой. – М.: Финансы и статистика,  2003. – С. 236-26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Джораев В.О. Оценка бизнеса: Учебно–методическое пособие – Оренбург, ОГАУ, 2004. – 42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Экономическая оценка земли/ Под ред. Руденко Н.Р. – М.: ВНИИЭСХ, 2005. – 210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179280" y="2492280"/>
          <a:ext cx="8713800" cy="3333960"/>
        </p:xfrm>
        <a:graphic>
          <a:graphicData uri="http://schemas.openxmlformats.org/drawingml/2006/table">
            <a:tbl>
              <a:tblPr/>
              <a:tblGrid>
                <a:gridCol w="496800"/>
                <a:gridCol w="2760480"/>
                <a:gridCol w="1538640"/>
                <a:gridCol w="3917880"/>
              </a:tblGrid>
              <a:tr h="110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Цена земельного участка с улучшениями,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Доля земли, 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Стоимость земли, руб./г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42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420 000*0,32=134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85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850 000*0,17=1445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 000 000*0,15=150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2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Стоимость свободного земельного (134400+144500+150000)/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43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"/>
          <p:cNvSpPr/>
          <p:nvPr/>
        </p:nvSpPr>
        <p:spPr>
          <a:xfrm>
            <a:off x="519120" y="431640"/>
            <a:ext cx="8013600" cy="11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Расчёт рыночной стоимости земл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методом распреде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imes New Roman"/>
              </a:rPr>
              <a:t>Пример 1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1000"/>
                            </p:stCondLst>
                            <p:childTnLst>
                              <p:par>
                                <p:cTn id="50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6" name=""/>
          <p:cNvGraphicFramePr/>
          <p:nvPr/>
        </p:nvGraphicFramePr>
        <p:xfrm>
          <a:off x="250920" y="1484280"/>
          <a:ext cx="8678880" cy="3697200"/>
        </p:xfrm>
        <a:graphic>
          <a:graphicData uri="http://schemas.openxmlformats.org/drawingml/2006/table">
            <a:tbl>
              <a:tblPr/>
              <a:tblGrid>
                <a:gridCol w="461880"/>
                <a:gridCol w="2779560"/>
                <a:gridCol w="1943280"/>
                <a:gridCol w="34941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Цена объекта недвижимости (земельного участка с улучшениями),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Стоимость улучшений,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Отношение стоимости улучшений к стоимости объек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42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31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0,73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85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0,70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8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0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76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Среднее значение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0,7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96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Стоимость свободного земельного участка: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(1-0,75)*500000/0,75=167000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7" name=""/>
          <p:cNvSpPr/>
          <p:nvPr/>
        </p:nvSpPr>
        <p:spPr>
          <a:xfrm>
            <a:off x="3564000" y="476280"/>
            <a:ext cx="25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 Black"/>
              </a:rPr>
              <a:t>Пример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0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600"/>
                            </p:stCondLst>
                            <p:childTnLst>
                              <p:par>
                                <p:cTn id="52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8" name=""/>
          <p:cNvGraphicFramePr/>
          <p:nvPr/>
        </p:nvGraphicFramePr>
        <p:xfrm>
          <a:off x="468360" y="1773360"/>
          <a:ext cx="8451720" cy="4627440"/>
        </p:xfrm>
        <a:graphic>
          <a:graphicData uri="http://schemas.openxmlformats.org/drawingml/2006/table">
            <a:tbl>
              <a:tblPr/>
              <a:tblGrid>
                <a:gridCol w="1368360"/>
                <a:gridCol w="2087640"/>
                <a:gridCol w="2736720"/>
                <a:gridCol w="2259000"/>
              </a:tblGrid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№ </a:t>
                      </a: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объек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Цена предложения,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Прогнозируемый чистый операционный доход, руб./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Коэффициент капитализац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 05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2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0,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2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0,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5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2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0,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6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50 10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0,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05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0,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5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50 9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0,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70 7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49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0,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6 126 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 097 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0,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5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79 8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0,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>
            <a:off x="1150560" y="212760"/>
            <a:ext cx="736812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 Black"/>
              </a:rPr>
              <a:t>Оценка рыночной стоимости земли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 Black"/>
              </a:rPr>
              <a:t>методом остатк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Black"/>
              </a:rPr>
              <a:t>Таблица 1.- Определение величины коэффициент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Black"/>
              </a:rPr>
              <a:t>капитализации для улучшен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4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5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6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4360"/>
                            </p:stCondLst>
                            <p:childTnLst>
                              <p:par>
                                <p:cTn id="5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"/>
          <p:cNvGraphicFramePr/>
          <p:nvPr/>
        </p:nvGraphicFramePr>
        <p:xfrm>
          <a:off x="395280" y="1916280"/>
          <a:ext cx="8280360" cy="4081320"/>
        </p:xfrm>
        <a:graphic>
          <a:graphicData uri="http://schemas.openxmlformats.org/drawingml/2006/table">
            <a:tbl>
              <a:tblPr/>
              <a:tblGrid>
                <a:gridCol w="792000"/>
                <a:gridCol w="5905800"/>
                <a:gridCol w="158256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№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Элемент анализ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Знач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Общий чистый операционный доход,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725 7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Стоимость улучшений,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 228 13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Коэффициент капитализации для улучшен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0,2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Чистый операционный доход, относящийся к улучшениям (стр. 2*стр. 3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48 08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Чистый операционный доход, относящийся к земле (стр. 1 – стр. 4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477 67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1" name=""/>
          <p:cNvSpPr/>
          <p:nvPr/>
        </p:nvSpPr>
        <p:spPr>
          <a:xfrm>
            <a:off x="1332000" y="404640"/>
            <a:ext cx="6956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 Black"/>
              </a:rPr>
              <a:t>Таблица 2. - Расчёт величины чистого операционного дохода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 Black"/>
              </a:rPr>
              <a:t>относящегося к земельному участку</a:t>
            </a:r>
            <a:r>
              <a:rPr b="0" lang="en-US" sz="2200" spc="-1" strike="noStrike">
                <a:solidFill>
                  <a:srgbClr val="ffcc66"/>
                </a:solidFill>
                <a:latin typeface="Arial Black"/>
              </a:rPr>
              <a:t>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0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5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5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11280" y="2060640"/>
          <a:ext cx="8137440" cy="3095640"/>
        </p:xfrm>
        <a:graphic>
          <a:graphicData uri="http://schemas.openxmlformats.org/drawingml/2006/table">
            <a:tbl>
              <a:tblPr/>
              <a:tblGrid>
                <a:gridCol w="1081080"/>
                <a:gridCol w="5543640"/>
                <a:gridCol w="1512720"/>
              </a:tblGrid>
              <a:tr h="100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№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Элемент анализ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Знач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Чистый операционный доход, относящийся к земле,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477 67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Коэффициент капитализации дохода от земл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0,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Рыночная стоимость земли, руб. (стр.1:стр.2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 986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3" name=""/>
          <p:cNvSpPr/>
          <p:nvPr/>
        </p:nvSpPr>
        <p:spPr>
          <a:xfrm>
            <a:off x="1648440" y="476280"/>
            <a:ext cx="633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 Black"/>
              </a:rPr>
              <a:t>Таблица 3. - Итоговый расчёт стоимост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 Black"/>
              </a:rPr>
              <a:t>земельного участ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0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8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"/>
          <p:cNvGraphicFramePr/>
          <p:nvPr/>
        </p:nvGraphicFramePr>
        <p:xfrm>
          <a:off x="395280" y="765000"/>
          <a:ext cx="8229600" cy="5927760"/>
        </p:xfrm>
        <a:graphic>
          <a:graphicData uri="http://schemas.openxmlformats.org/drawingml/2006/table">
            <a:tbl>
              <a:tblPr/>
              <a:tblGrid>
                <a:gridCol w="1828800"/>
                <a:gridCol w="522360"/>
                <a:gridCol w="588960"/>
                <a:gridCol w="520560"/>
                <a:gridCol w="523800"/>
                <a:gridCol w="522360"/>
                <a:gridCol w="587520"/>
                <a:gridCol w="522000"/>
                <a:gridCol w="524160"/>
                <a:gridCol w="520560"/>
                <a:gridCol w="523800"/>
                <a:gridCol w="520920"/>
                <a:gridCol w="523800"/>
              </a:tblGrid>
              <a:tr h="35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Затраты на строительств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Стоимость обременен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Арендная плата за землю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Доходы от продажи квартир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8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8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8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8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Итого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Доходы (+), расходы (-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-100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-20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58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58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58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52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99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99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99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99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99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99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Ставка дисконтирова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12"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Фактор дисконтирова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0,992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0,98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0,97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0,96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0,96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0,95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0,94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0,93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0,93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0,9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0,9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Дисконтирован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ный денежный пото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-100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-200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578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574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569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507,4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951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94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936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929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921,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914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Итого сумм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12"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6625,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Пример расчета методом предполагаемого использования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0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75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76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77" dur="3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6" name=""/>
          <p:cNvGraphicFramePr/>
          <p:nvPr/>
        </p:nvGraphicFramePr>
        <p:xfrm>
          <a:off x="539640" y="2708280"/>
          <a:ext cx="8136000" cy="1714320"/>
        </p:xfrm>
        <a:graphic>
          <a:graphicData uri="http://schemas.openxmlformats.org/drawingml/2006/table">
            <a:tbl>
              <a:tblPr/>
              <a:tblGrid>
                <a:gridCol w="431640"/>
                <a:gridCol w="4992840"/>
                <a:gridCol w="2711520"/>
              </a:tblGrid>
              <a:tr h="77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Годовая рента, тыс.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00</a:t>
                      </a: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×</a:t>
                      </a:r>
                      <a:r>
                        <a:rPr b="0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4 = 4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Рыночная стоимость земельного участка, тыс.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400 : 0,1 = 4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"/>
          <p:cNvSpPr/>
          <p:nvPr/>
        </p:nvSpPr>
        <p:spPr>
          <a:xfrm>
            <a:off x="2207160" y="731880"/>
            <a:ext cx="5068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Times New Roman"/>
              </a:rPr>
              <a:t>Оценка стоимости земли методом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Times New Roman"/>
              </a:rPr>
              <a:t>капитализации земельной рент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0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1000"/>
                            </p:stCondLst>
                            <p:childTnLst>
                              <p:par>
                                <p:cTn id="5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ВОПРОС 1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2636640"/>
            <a:ext cx="8229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Особенности оценки стоимости земель сельскохозяйственного назначения. Объекты оценк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Основные факторы, оказывающие влияние на стоимость земли: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Природно-климатические услов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Тип землепользования и направление ведения сельскохозяйственного производств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Структура посевных площадей и преобладающие системы севооборот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Виды сельскохозяйственных угодий и производимых товарных культур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Плодородие, технологические свойства и другие характеристики качества почв и рельеф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500"/>
                            </p:stCondLst>
                            <p:childTnLst>
                              <p:par>
                                <p:cTn id="7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Основные факторы (продолжение):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Урожайность основных товарных культур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Местоположение относительно рынков сбыт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Улучшения, произведенные с сельскохозяйственными угодьям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Занятость населения и другие социально-демографические особенност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Цены на ГСМ и сельскохозяйственную технику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Инфраструктура хозяйст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Отличия, которые необходимо учитывать при оценке земель сельскохозяйственного назначения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Arial"/>
              </a:rPr>
              <a:t>В определении структуры  и состава издержек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Arial"/>
              </a:rPr>
              <a:t>В определении статей дохода и способов его оценки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Arial"/>
              </a:rPr>
              <a:t>В применении принципа наиболее эффективного использования, через выбор технологий ведения сельскохозяйственного производства, системы севооборотов, обеспечивающих получение максимального дохода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Arial"/>
              </a:rPr>
              <a:t>В критериях отбора объектов аналогов и элементов сравнения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3000"/>
                            </p:stCondLst>
                            <p:childTnLst>
                              <p:par>
                                <p:cTn id="13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Особенности, которые необходимо учитывать при проведении оценки: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Необходимость поддержания почвенного плодородия сельскохозяйственных угодий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Прямая зависимость структуры сельскохозяйственных угодий от физико-географических характеристик местности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Высокие риски ведения производства, обусловленные природными факторами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Влияние на доходы производства колебания цен на сельскохозяйственную продукцию, ГСМ, сельскохозяйственную технику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Сезонный характер сельскохозяйственного производства и цен на рынке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Диспаритет цен на сельскохозяйственную и промышленную продукцию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Невысокая плотность населения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Степень развития инфраструктуры и др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500"/>
                            </p:stCondLst>
                            <p:childTnLst>
                              <p:par>
                                <p:cTn id="17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3000"/>
                            </p:stCondLst>
                            <p:childTnLst>
                              <p:par>
                                <p:cTn id="18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3500"/>
                            </p:stCondLst>
                            <p:childTnLst>
                              <p:par>
                                <p:cTn id="19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4500"/>
                            </p:stCondLst>
                            <p:childTnLst>
                              <p:par>
                                <p:cTn id="20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771640" y="15573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76800" y="3645000"/>
            <a:ext cx="368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 Black"/>
              </a:rPr>
              <a:t>Экономическая оцен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 Black"/>
              </a:rPr>
              <a:t>стоимости земе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40640" y="3645000"/>
            <a:ext cx="357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 Black"/>
              </a:rPr>
              <a:t>Качественная оценк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 Black"/>
              </a:rPr>
              <a:t>земель по природны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 Black"/>
              </a:rPr>
              <a:t>свойства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195640" y="2205000"/>
            <a:ext cx="2016000" cy="129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219640" y="2205000"/>
            <a:ext cx="1871640" cy="136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818000" y="1197000"/>
            <a:ext cx="560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 Black"/>
              </a:rPr>
              <a:t>Оценка сельскохозяйственны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Arial Black"/>
              </a:rPr>
              <a:t>угод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8" dur="2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" dur="2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2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300"/>
                            </p:stCondLst>
                            <p:childTnLst>
                              <p:par>
                                <p:cTn id="22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4300"/>
                            </p:stCondLst>
                            <p:childTnLst>
                              <p:par>
                                <p:cTn id="2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300"/>
                            </p:stCondLst>
                            <p:childTnLst>
                              <p:par>
                                <p:cTn id="23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6300"/>
                            </p:stCondLst>
                            <p:childTnLst>
                              <p:par>
                                <p:cTn id="2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2T10:18:03Z</dcterms:created>
  <dc:creator>Джораев </dc:creator>
  <dc:description/>
  <dc:language>en-US</dc:language>
  <cp:lastModifiedBy>Джораев В.О.</cp:lastModifiedBy>
  <dcterms:modified xsi:type="dcterms:W3CDTF">2007-02-15T17:00:20Z</dcterms:modified>
  <cp:revision>18</cp:revision>
  <dc:subject/>
  <dc:title>ТЕМА: ОЦЕНКА СТОИМОСТИ ЗЕМЕЛЬ СЕЛЬСКОХОЗЯЙСТВЕННОГО НАЗНАЧЕНИЯ</dc:title>
</cp:coreProperties>
</file>